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40FE-A829-40C8-93EE-AD141AE6B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DA3E-D525-466D-8EA1-BC54AA16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3555-4F11-49F1-BA61-8C2E3DC2B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6A19-4A14-48EA-9864-8C0941A54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C03B-83B9-4C8C-98CF-AC46007C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078A-B0AB-4788-A969-CE289CE4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DC75-7F57-4F0B-BDB7-CE92DC3F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2688-6954-4CEF-8E23-C8DF1181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51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EB74-5350-456A-9B81-80F7774B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F033-0345-4056-B35C-3A693022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4A14-D2CC-4142-B40C-57FE6EF1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729B-616A-4788-AC71-8F435870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DED8-1326-4C23-B60B-A824858E2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295280"/>
            <a:ext cx="8382240" cy="45720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09120" y="388584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9, LESSON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46-4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K. 3:7-12; MATT. 12:15-21; LK. 6:12-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IR, WE WOULD SEE JESUS”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 Great Galilean Ministry -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9B0C-B3C0-42D5-A822-02FE8974355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REAT GALILEAN MINISTRY</a:t>
            </a:r>
            <a:br>
              <a:rPr sz="36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rk 3:7-12; Matt. 12:15-2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had healed on the Sabbath 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arisees plotted to kill H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ithdrew to the Sea of Galil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ll, great multitudes followed H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healed them 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BB75-A676-484B-A5F2-64B360CCDE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REAT GALILEAN MINISTRY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rk 3:7-12; Matt. 12:15-2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taught the people from a small bo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healed the affli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pressed to touch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 unclean spirits acknowledged Him as “the Son of Go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warned them not to make Him kn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41EE-8F80-44C8-BF9C-5E80E5A496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NOTHER PROHECY FULFILLED</a:t>
            </a:r>
            <a:br>
              <a:rPr sz="32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tt. 12:18-2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fulfilled the prophecy of Isaiah 42:1-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ehold! My Servant whom I have chosen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y Beloved in whom My soul is well pleas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 will put My Spirit upon Him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nd He will declare justice to the Genti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e will not quarrel nor cry out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or will anyone hear His voice in the stree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 bruised reed He will not break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nd smoking flax He will not quench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ill He sends forth justice to victory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nd in His name Gentiles will t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39D4-0B76-498A-836D-AA4C8F6123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POSTLES CHOSEN</a:t>
            </a:r>
            <a:br>
              <a:rPr sz="32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rk 3:13-19; Luke 6:12-1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a night of prayer, Jesus selects twelve apost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apostle means “one sen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ere eyewitnesses of the life of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postles would gradually share in Jesus’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ould soon go out and pr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1585-EEC4-42B2-88A6-3C897970D3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POSTLES CHOSEN</a:t>
            </a:r>
            <a:br>
              <a:rPr sz="36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rk 3:13-19; Luke 6:12-1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n the baptism of the Holy Spirit on Pentec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ided into all tr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wer to heal all sicknesses and to cast out unclean spir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postles were to lay the foundation of Jesus Christ upon which the church was bui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49FA-5834-4A0C-8DA7-47F39F405C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POSTLES CHOSEN</a:t>
            </a:r>
            <a:br>
              <a:rPr sz="36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rk 3:13-19; Luke 6:12-1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ere: Peter, Andrew, James, John, Philip, Bartholomew, Thomas, Matthew, Jam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on of Alphaeus)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addaeus, Simon, Judas Iscari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e apostles died, no replacement was made (except in the case of Judas Iscario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 was specially chosen to work primarily with the Gentile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9496-3D2E-40A6-A948-DBBAA910D1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04:18:45Z</dcterms:created>
  <dc:creator>billy lauderdale</dc:creator>
  <dc:description/>
  <dc:language>en-US</dc:language>
  <cp:lastModifiedBy>Frank D Vines</cp:lastModifiedBy>
  <dcterms:modified xsi:type="dcterms:W3CDTF">2006-08-14T17:42:35Z</dcterms:modified>
  <cp:revision>23</cp:revision>
  <dc:subject/>
  <dc:title>SIR, WE WOULD SEE JESUS  -GREAT GALILEAN MINISTRY- </dc:title>
</cp:coreProperties>
</file>